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E29F31-74FF-400D-AD1C-B02FD8B3F4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ACEB3A-90D2-472B-97A5-D661E62DA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7A47EF-EEDE-4D84-A5C9-52D1BE2B8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530-B810-4365-A697-452159F8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5C4-2E8F-4C24-888D-31F339CA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03F-EC1B-49EA-B534-F3DF8587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F8C-B1FD-42DE-B1A7-288B812C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C67-18EB-4A2B-8164-8607B80B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C8A-354C-4051-8FD8-6B2D5AFA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508-1FA8-4A0A-8FB1-96F40652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392-C055-4FA5-8E1A-908654A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957-C29F-4271-B35C-53559C97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693-8E99-4637-BA60-A1B0C5C8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9F3-6D60-4A5F-8360-D8C9BCD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250-5808-460B-8FB8-CCA15316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1A7BCC-BF43-49DC-B1B5-7DCDD3B9DEE7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7772B1-BEFF-421A-A2F0-13A0C6E12022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380880" y="762120"/>
            <a:ext cx="216072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urrent Skill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all nouns as singular possessiv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ample: the king’s crow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553080" y="2666880"/>
            <a:ext cx="28004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urrent skill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saurus Practic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reate a list of synonyms (words that mean the same or about the same) for 8 spelling word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se a thesaurus if needed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048120" y="4876920"/>
            <a:ext cx="327960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urrent skill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xt organization. Decide what spelling words belong together. Group them into, at least, two groups. Provide a title for each gro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: one syllable words – won, king, fun &amp; two syllable words – compute, funn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3352680" y="914400"/>
            <a:ext cx="272124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7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elling (.) sentenc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Each sentence must use a spelling word. Underline the spelling wor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228600" y="2971800"/>
            <a:ext cx="263988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7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question (?) sentenc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Each sentence must use a spelling word. Underline the spelling wor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781680" y="1219320"/>
            <a:ext cx="256068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each word in cursive twic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029200"/>
            <a:ext cx="297180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ainbow Spelling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ents may type (preferred) or write each word with vowels and consonants in a different font style or colo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200400" y="2743200"/>
            <a:ext cx="296064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about a thing you would like to learn more about. Use 6 spelling word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line each wor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ents are beginning research projects in cla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800760" y="5121360"/>
            <a:ext cx="25606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5 sentences that use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quotation (“ ”) marks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show someone speak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-152280"/>
            <a:ext cx="9372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Ant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Students must complete Tic-Tac-Toe (three in a row – must us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8:56:43Z</dcterms:created>
  <dc:creator> </dc:creator>
  <dc:description/>
  <dc:language>en-US</dc:language>
  <cp:lastModifiedBy>Mits Mits</cp:lastModifiedBy>
  <dcterms:modified xsi:type="dcterms:W3CDTF">2010-02-17T13:47:12Z</dcterms:modified>
  <cp:revision>3</cp:revision>
  <dc:subject/>
  <dc:title>Slide 1</dc:title>
</cp:coreProperties>
</file>